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47-F68B-45C9-B4FE-B19C7DCB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9D2-D28B-435C-AB77-78562E2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585-EBB4-4100-8887-44DCC77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468-8881-43C7-A84B-4E97CF88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508-5EEE-474F-9CD1-2D2DFAE8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6AF2-2993-4BFA-8519-E59CDC43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97E-6BA8-4C84-8CF3-E46AE99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AF27-51C0-4AE6-BB94-EE2560B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BF6B-3B30-45E9-98B4-32B292AA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8FCB-6C37-4E93-963D-B282A09C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BFB1-A180-4065-9697-B484D31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C56-3E34-488B-BE67-454C4924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2C4E-6D89-4ACC-9938-6B6E5697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CF4-44F1-4F8D-8B57-DD5AE90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0683-4F34-4A7F-8B19-0D7B43FF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6CB6-47C0-4C81-896D-B51D35B2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C304-B192-4D65-82DE-1854C1CF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7A7-AAD5-44C7-BCC2-E7FE52A0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982-3DBC-4F7B-90C6-1FBE9B2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4D8-51A4-481C-94C7-6D01D1C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B27-3CE4-4737-B92D-F71DB1B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2DE-F234-4F4C-9B64-AD625B0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C75-68CE-41E0-8B54-FABE2802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CEEF-92AA-41CC-AD2F-BADB40A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632-D5B7-488E-8545-8CC7AF4C1D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4A2D-7932-46AE-8B5D-29C6AC597AA1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america.edu.co/index.php?id=67/guiametogologica" TargetMode="External"/><Relationship Id="rId2" Type="http://schemas.openxmlformats.org/officeDocument/2006/relationships/hyperlink" Target="http://orton.catie.ac.cr/cgi-hin/wxis.exe/?IsisScript=AGRISUM.xis&amp;method=post&amp;formato=2&amp;cantidad=1&amp;expresion=mfn=00023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6760" y="1285920"/>
            <a:ext cx="857268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66"/>
                </a:solidFill>
                <a:latin typeface="Tahoma"/>
              </a:rPr>
              <a:t>UNIVERSIDAD DE AMERICA</a:t>
            </a:r>
            <a:br>
              <a:rPr sz="4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GENIERÍA QUIMIC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nero de 2018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32000" y="501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45472"/>
                </a:solidFill>
                <a:latin typeface="Tahoma"/>
              </a:rPr>
              <a:t>SEMINARIO DE PROYECTO DE GRAD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251320" y="6237360"/>
            <a:ext cx="39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COMITÉ DE PROYECTO DE GRA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45472"/>
                </a:solidFill>
                <a:latin typeface="Tahoma"/>
              </a:rPr>
              <a:t>IQ LEONARDO DE J. HERRERA G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9" name="Imagen 1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7333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755640" y="333360"/>
            <a:ext cx="792972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Arial"/>
              </a:rPr>
              <a:t>¿CÓMO RECONOCER QUE ES UN TEMA PERTINENTE DE INVESTIGACION EN IQ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XPERIMENT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ISEÑO DE INGENIERÍ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PROCESOS QUIMIC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BIOTECNOLOGIA, BIOQUIMIC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DESARROLLOS DE SOFTWAR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Picture 4" descr="HM00361_"/>
          <p:cNvPicPr/>
          <p:nvPr/>
        </p:nvPicPr>
        <p:blipFill>
          <a:blip r:embed="rId1"/>
          <a:stretch/>
        </p:blipFill>
        <p:spPr>
          <a:xfrm>
            <a:off x="1905120" y="4343400"/>
            <a:ext cx="2057400" cy="1857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WB01750_"/>
          <p:cNvPicPr/>
          <p:nvPr/>
        </p:nvPicPr>
        <p:blipFill>
          <a:blip r:embed="rId2"/>
          <a:stretch/>
        </p:blipFill>
        <p:spPr>
          <a:xfrm>
            <a:off x="5562720" y="2286000"/>
            <a:ext cx="2971800" cy="1189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284720" y="4005360"/>
            <a:ext cx="4535280" cy="25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CONTROL DE PROCES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NORMAS DE CALID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MEDIO AMBIENT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 INDUSTRI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IMPACTOS  SOCIAL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FUENTE DE TEMAS DE PROYECT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2960" y="149976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roblemas del entorno industrial e institucional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Mejoramiento de situaciones actuales en la industria o institucion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tinuación de investigaciones anteriores.(trabajos de grado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a profesores y profesionales de la industr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onsultas con el departamento de Investigación</a:t>
            </a:r>
            <a:r>
              <a:rPr b="1" lang="es-MX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Imagen 1" descr=""/>
          <p:cNvPicPr/>
          <p:nvPr/>
        </p:nvPicPr>
        <p:blipFill>
          <a:blip r:embed="rId6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391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L PROYECTO DE GRADO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ES UN PROCES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36960" y="2978280"/>
            <a:ext cx="2895480" cy="2209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>
            <a:off x="2133720" y="3429000"/>
            <a:ext cx="99036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2133720" y="4038480"/>
            <a:ext cx="91440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342900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4572000" y="2133720"/>
            <a:ext cx="0" cy="83808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5562720" y="2057400"/>
            <a:ext cx="0" cy="91440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2209680" y="4724280"/>
            <a:ext cx="838440" cy="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380988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5257800" y="5181480"/>
            <a:ext cx="0" cy="609840"/>
          </a:xfrm>
          <a:prstGeom prst="line">
            <a:avLst/>
          </a:prstGeom>
          <a:ln w="572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6918840" y="3429000"/>
            <a:ext cx="19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TITULO D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GENIER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QUÍMI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86360" y="1828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Proyectista(s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2971800" y="2057400"/>
            <a:ext cx="45720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621960" y="149868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COMITÉ D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Verdana"/>
              </a:rPr>
              <a:t>PROYECTO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5562720" y="2057400"/>
            <a:ext cx="7617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64771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6590520" y="1860480"/>
            <a:ext cx="20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Orientad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Jurado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valuador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2130840" y="5786280"/>
            <a:ext cx="211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4669560" y="57913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Codire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11040" y="34290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Empresa o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Institució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Verdana"/>
              </a:rPr>
              <a:t>Spons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Traer para la primera semana de clase de seminario varios temas en blanco y negro para discusión en clas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-270720" algn="just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Lectura de los lineamientos de proyectos de Grado en I.Q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27072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45472"/>
                </a:solidFill>
                <a:latin typeface="Tahoma"/>
              </a:rPr>
              <a:t>CPG IQ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9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0" name="5 Rectángulo"/>
          <p:cNvSpPr/>
          <p:nvPr/>
        </p:nvSpPr>
        <p:spPr>
          <a:xfrm>
            <a:off x="3491640" y="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45472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42960" y="856800"/>
            <a:ext cx="81043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Ramirez, A. (2009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Editorial Universidad javeriana. Bogota, Colombia.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Saravia, M. (2010). </a:t>
            </a: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METODOLOGIA DE LA INVESTIGACIONPROBLEMAS DE INGENIERIA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. Bueno Aires. Argentina. Editoriales Manantial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545472"/>
                </a:solidFill>
                <a:latin typeface="Tahoma"/>
              </a:rPr>
              <a:t>CIBERGRAFI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GUIA METODOLOGICA PARA ELABORACION DE PROYECTOS DE GRADO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Facultad de Ingenierías Universidad de América. (2010). Recuperado el 22 Abril de 2014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1"/>
              </a:rPr>
              <a:t>http://www.uamerica.edu.co/index.php?id=67/guiametogologica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545472"/>
                </a:solidFill>
                <a:latin typeface="Tahoma"/>
              </a:rPr>
              <a:t>LOS PROBLEMAS EN INGENIERIA. </a:t>
            </a: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Hernandez, R. (2015) Recuperado en 22 de mayo de 2016, de  </a:t>
            </a:r>
            <a:r>
              <a:rPr b="0" lang="es-ES" sz="16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www.ie.itcr.ac.cr/.../El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Problem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en%20</a:t>
            </a:r>
            <a:r>
              <a:rPr b="1" i="1" lang="es-CO" sz="1600" spc="-1" strike="noStrike">
                <a:solidFill>
                  <a:srgbClr val="545472"/>
                </a:solidFill>
                <a:latin typeface="Tahoma"/>
              </a:rPr>
              <a:t>ingeniería</a:t>
            </a:r>
            <a:r>
              <a:rPr b="0" i="1" lang="es-CO" sz="1600" spc="-1" strike="noStrike">
                <a:solidFill>
                  <a:srgbClr val="545472"/>
                </a:solidFill>
                <a:latin typeface="Tahoma"/>
              </a:rPr>
              <a:t>%20No.3.ppt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45472"/>
                </a:solidFill>
                <a:latin typeface="Tahoma"/>
              </a:rPr>
              <a:t>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-284400" algn="just">
              <a:spcBef>
                <a:spcPts val="4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545472"/>
                </a:solidFill>
                <a:latin typeface="Tahoma"/>
              </a:rPr>
              <a:t>IDENTIFICACION DE PROBLEMAS EN LA INDUSTRIA.</a:t>
            </a:r>
            <a:r>
              <a:rPr b="1" lang="es-E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545472"/>
                </a:solidFill>
                <a:latin typeface="Tahoma"/>
              </a:rPr>
              <a:t>Puis, D. (2015). Instituto Tecnológico y de Estudios Superiores de Monterrey. Recuperado el 12 Mayo de 2011, de  </a:t>
            </a:r>
            <a:r>
              <a:rPr b="0" lang="es-ES" sz="1600" spc="-1" strike="noStrike" u="sng">
                <a:solidFill>
                  <a:srgbClr val="545472"/>
                </a:solidFill>
                <a:uFillTx/>
                <a:latin typeface="Tahoma"/>
              </a:rPr>
              <a:t>http://www.aie.cl/files/file/comites/ca/articulos/diciembre-05.pdf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6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4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233" name="5 Rectángulo"/>
          <p:cNvSpPr/>
          <p:nvPr/>
        </p:nvSpPr>
        <p:spPr>
          <a:xfrm>
            <a:off x="2737440" y="214200"/>
            <a:ext cx="39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545472"/>
                </a:solidFill>
                <a:latin typeface="Times New Roman"/>
              </a:rPr>
              <a:t>BIBLIOGRAFIA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5327640" cy="15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660066"/>
                </a:solidFill>
                <a:latin typeface="Tahoma"/>
              </a:rPr>
              <a:t>FIN DE LA PRESENT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Picture 3" descr="J0186164"/>
          <p:cNvPicPr/>
          <p:nvPr/>
        </p:nvPicPr>
        <p:blipFill>
          <a:blip r:embed="rId1"/>
          <a:stretch/>
        </p:blipFill>
        <p:spPr>
          <a:xfrm>
            <a:off x="228600" y="1955880"/>
            <a:ext cx="220968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4"/>
          <p:cNvSpPr/>
          <p:nvPr/>
        </p:nvSpPr>
        <p:spPr>
          <a:xfrm>
            <a:off x="3348000" y="1994040"/>
            <a:ext cx="4419720" cy="1600200"/>
          </a:xfrm>
          <a:prstGeom prst="wedgeRoundRectCallout">
            <a:avLst>
              <a:gd name="adj1" fmla="val -66162"/>
              <a:gd name="adj2" fmla="val 39087"/>
              <a:gd name="adj3" fmla="val 16667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¡ Muchas GRACIA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por la aten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Arial"/>
              </a:rPr>
              <a:t>y por su tiempo 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Rectángulo 1"/>
          <p:cNvSpPr/>
          <p:nvPr/>
        </p:nvSpPr>
        <p:spPr>
          <a:xfrm>
            <a:off x="3635280" y="386064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517c1"/>
                </a:solidFill>
                <a:latin typeface="Times New Roman"/>
              </a:rPr>
              <a:t>comiteproyectosiq@uamerica.edu.c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Rectángulo 2"/>
          <p:cNvSpPr/>
          <p:nvPr/>
        </p:nvSpPr>
        <p:spPr>
          <a:xfrm>
            <a:off x="2438280" y="4406760"/>
            <a:ext cx="64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517c1"/>
                </a:solidFill>
                <a:latin typeface="Times New Roman"/>
              </a:rPr>
              <a:t>https://trabajodegradouamerica.wikispaces.com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714680"/>
            <a:ext cx="7696080" cy="387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PRESENTACION DEL SYLLABVS DE LA ASIGNATUR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ELEMENTOS A TENER EN CUENTA PARA EL DESARROLLO DEL PROYECTO DE GRADO (ING. LEONARDO HERRERA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PRESENTACION DE LOS INTEGRANTES DEL COMITE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CRONOGRAMA DE ACTIVIDADES DEL SEMINARIO (ING. ELIZABETH TORRES)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PRESENTACION DE LOS TEMAS POR PARTE DE LOS ESTUDIANTES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OBJETIVOS DE LA REUN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571840"/>
            <a:ext cx="7696080" cy="4084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El trabajo de grado es una aplicación teórico -practica (investigación) de los conocimientos , destrezas  y competencias adquiridas durante el proceso de formación profesional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sirve para el análisis de casos de investigación, solución de problemas de la industria y aprovechamiento de oportunidade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3. Es una oportunidad para que los estudiantes evalúen los conocimientos adquiridos y los pongas en práctica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4. Es una de las modalidades para optar por el título profesional de los diferentes programas ofrecidos por la Universidad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5. Orientado por el comité de proyectos de grado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6. Desarrollado bajo las normas de la Institición y de las normas ICONTEC  vigentes.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PROYECTO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520" y="2500200"/>
            <a:ext cx="7767720" cy="2857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1. Órgano colegiado constituido por docentes y profesionales idóneos y con la experticia para orientar y dirigir las diferentes etapas del proceso investigativo del proyect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2. Que propende por el cumplimiento y desarrollo de los objetivos de las asignaturas de seminario de proyecto de grado y trabajo de Grado.</a:t>
            </a:r>
            <a:br>
              <a:rPr sz="1800"/>
            </a:br>
            <a:r>
              <a:rPr b="1" lang="es-ES_tradnl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285920" y="142920"/>
            <a:ext cx="71215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DEFINICION DE COMITÉ DE PROYECTOS DE GRAD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836640"/>
            <a:ext cx="65498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ETAPAS DEL PROYECTO DE GRAD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28800" y="2322360"/>
            <a:ext cx="735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PLANEACION: SEMINARIO DE PROYECTO DE GRADO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2.   EJECUCION: TRABAJO DE GRAD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45472"/>
                </a:solidFill>
                <a:latin typeface="Times New Roman"/>
              </a:rPr>
              <a:t>3.  ENTREGRA: SUSTENTACION, CORRECCIONES Y GRADUACION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L PROYECTO DE GRADO COMO UN PROCESO TECNICO-ADMINISTRATIV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57200" y="1981080"/>
            <a:ext cx="8153280" cy="4496040"/>
          </a:xfrm>
          <a:prstGeom prst="rect">
            <a:avLst/>
          </a:prstGeom>
          <a:solidFill>
            <a:srgbClr val="00cc0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429000" y="21337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352680" y="2209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CONCEPCIÓN DE LA IDE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352680" y="29718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DEFINICIÓN DEL TEM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352680" y="388620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STRUCTURAR PROPUES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352680" y="47242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LABORAR ANTE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352680" y="5638680"/>
            <a:ext cx="4800600" cy="457200"/>
          </a:xfrm>
          <a:prstGeom prst="rect">
            <a:avLst/>
          </a:prstGeom>
          <a:solidFill>
            <a:srgbClr val="5454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7ccd9"/>
                </a:solidFill>
                <a:latin typeface="Verdana"/>
              </a:rPr>
              <a:t>EJECUCIÓN DEL PROYECT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5943600" y="2666880"/>
            <a:ext cx="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5943600" y="4343400"/>
            <a:ext cx="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943600" y="6095880"/>
            <a:ext cx="0" cy="5335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H="1">
            <a:off x="2819160" y="5867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819520" y="24382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2819520" y="2437920"/>
            <a:ext cx="0" cy="342900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819520" y="41148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8088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laneación y Program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743040" y="5283360"/>
            <a:ext cx="162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Desarroll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y Contro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914400" y="510552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838080" y="632448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914400" y="2133720"/>
            <a:ext cx="10666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V="1">
            <a:off x="1523880" y="51055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1523880" y="6019920"/>
            <a:ext cx="0" cy="30456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29"/>
          <p:cNvSpPr/>
          <p:nvPr/>
        </p:nvSpPr>
        <p:spPr>
          <a:xfrm flipV="1">
            <a:off x="1523880" y="2133720"/>
            <a:ext cx="0" cy="12952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1523880" y="4267080"/>
            <a:ext cx="0" cy="7621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1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918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VALORES AGREG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3" name="Picture 3" descr="IDEA"/>
          <p:cNvPicPr/>
          <p:nvPr/>
        </p:nvPicPr>
        <p:blipFill>
          <a:blip r:embed="rId1"/>
          <a:stretch/>
        </p:blipFill>
        <p:spPr>
          <a:xfrm>
            <a:off x="1752480" y="2666880"/>
            <a:ext cx="1295640" cy="3935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3419640" y="2590920"/>
            <a:ext cx="5724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me gust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quiero hacer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En qué quiero destacarme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fortalezas tengo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Qué recursos tengo disponibles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Cuál es la disciplina profesional preferida?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¿Lo desarroll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sólo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 o </a:t>
            </a:r>
            <a:r>
              <a:rPr b="1" i="1" lang="es-ES_tradnl" sz="2000" spc="-1" strike="noStrike">
                <a:solidFill>
                  <a:srgbClr val="545472"/>
                </a:solidFill>
                <a:latin typeface="Times New Roman"/>
              </a:rPr>
              <a:t>en compañía</a:t>
            </a: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? (Con quién?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14400" y="10666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una valiosa oportunidad para profundizar en los temas y aspectos de formación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45472"/>
                </a:solidFill>
                <a:latin typeface="Times New Roman"/>
              </a:rPr>
              <a:t>Es la carta de presentación para ingresar al mundo laboral y profes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6" name="Imagen 1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0066"/>
                </a:solidFill>
                <a:latin typeface="Tahoma"/>
              </a:rPr>
              <a:t>MANERAS DE REALIZAR UN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516720" y="1989000"/>
            <a:ext cx="2133720" cy="2057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 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XCELEN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11280" y="1989000"/>
            <a:ext cx="213336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EALIZ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3348000" y="2060640"/>
            <a:ext cx="228600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ALIZAR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ACTORI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286680" y="4143240"/>
            <a:ext cx="2643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DESTACARS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novar en   la indust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alidad en la Investigación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ortes profesionale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Valor agregado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71680" y="4143240"/>
            <a:ext cx="2603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Times New Roman"/>
              </a:rPr>
              <a:t>APROBAR  S Y T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Asistir a clase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Traer tem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Sustentar anteproyecto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45472"/>
                </a:solidFill>
                <a:latin typeface="Times New Roman"/>
              </a:rPr>
              <a:t>Cumplir con fech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14800" y="4143240"/>
            <a:ext cx="3000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31a03"/>
                </a:solidFill>
                <a:latin typeface="Times New Roman"/>
              </a:rPr>
              <a:t>APROVECHAR OPORTUNIDA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Investigar y profundiza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Participar en los talle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Aplicar los conocimientos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45472"/>
                </a:solidFill>
                <a:latin typeface="Times New Roman"/>
              </a:rPr>
              <a:t>Consultar con los orientador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4" name="Imagen 1" descr=""/>
          <p:cNvPicPr/>
          <p:nvPr/>
        </p:nvPicPr>
        <p:blipFill>
          <a:blip r:embed="rId1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66"/>
                </a:solidFill>
                <a:latin typeface="Tahoma"/>
              </a:rPr>
              <a:t>LA CONCEPCION Y DEFINICION DE  LOS TE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Se concibe la idea  y se hace una evaluación preliminar de su factibilidad  partiendo de problemas, investigaciones,  soluciones técnicas y oportunidades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novedos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útil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Responde a una necesidad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xisten recursos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ret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A quienes interesaría? ¿Puedo obtener soporte técnico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ahoma"/>
              </a:rPr>
              <a:t>¿Es pertinente, actual e innovador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¿Cuál es el área  académica en que se desarrollará la investigación?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Imagen 1" descr=""/>
          <p:cNvPicPr/>
          <p:nvPr/>
        </p:nvPicPr>
        <p:blipFill>
          <a:blip r:embed="rId10"/>
          <a:stretch/>
        </p:blipFill>
        <p:spPr>
          <a:xfrm>
            <a:off x="0" y="0"/>
            <a:ext cx="7333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3:58:31Z</dcterms:created>
  <dc:creator>Julio César Fuentes Arismendi</dc:creator>
  <dc:description>Presentación motivacional a los estudiantes del 8o. semestre el 11 Nov. 2005</dc:description>
  <dc:language>en-US</dc:language>
  <cp:lastModifiedBy>Usuario</cp:lastModifiedBy>
  <dcterms:modified xsi:type="dcterms:W3CDTF">2018-01-22T19:23:48Z</dcterms:modified>
  <cp:revision>77</cp:revision>
  <dc:subject/>
  <dc:title>EL ANTEPROYECTO DE GRADO</dc:title>
</cp:coreProperties>
</file>